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251E-E5B5-444D-8FEA-D7BADD991D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26BB-1153-444A-A466-3CDCB6FE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5791-CC11-4652-8367-D57B6368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E5F0-1FBC-4A78-859B-EF2245D593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5FEE6-C095-4486-8A64-A8F56B7292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3B1EB-13A5-4635-9B97-9F10BEB8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42C3F-FC33-4805-AA5D-175EE0DE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3A9F9-3FB0-46A2-94AD-AF587CBE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E1C23-6A2C-4839-9E52-FECA2988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EE1AC-F0C3-467D-AB2E-2CD76FC5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0D2E4-2AE7-4FB5-94C3-302B9E62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D4FD-215D-4F10-830C-E9647213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39FA0-B7F7-4EEE-83D6-037B4A80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C83FC-C914-471E-883C-17C4D6B8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4E058-1CB9-4694-9B08-2BD014C0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E0B68-A822-41E3-8734-1A029207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4AC2D-9F95-4B5F-A2CB-022FD4B6D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F526-B1DF-4050-88C5-DEF6AEBC6D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04E2-BC6B-461E-BE95-E9D38695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DB4E-8999-4791-8DF1-6C434F87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66A8-AAC9-4ABB-B19B-5A515934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1071-52A7-4BBF-9731-6E385673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796F-D760-4BC7-9091-38DEE789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CD6D-C3D3-4E77-9135-6BC285DC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225F-FC8A-499B-9349-B8B3DD14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226F-AFD2-4598-B58A-CF69D7B0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6822-977F-45C4-A04E-2C3E0792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2657-39F4-4A4F-BBDA-6CCEBA1A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03AD-D89C-4FE0-B661-58A601C1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36E8-AB00-4B46-BB97-FEDEC04BC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A7FE0-9064-41A9-ADF4-5F405D0566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1F926-63A4-4131-BF3D-8F2CF5F4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1A5BB-4CA2-4F3A-8A69-21D33F59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4CBB-5F33-4B5D-979E-67DCBE6F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FCFCD-B26D-478F-9C93-6777B0ED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7AD1A-0F43-4907-B999-4CE9760B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A0CD3-09EE-4C46-A38F-A7D25807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DCD59-EA50-4CCF-9101-AB258980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855E3-1FB2-4EDD-8A4B-8C5CF3BC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A8B76-223A-475F-91EB-8A688E09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C1254-E329-44EB-981A-2E1BC13B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76805-C48A-4200-B21C-40B5D74C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3CF6F-DCE4-4741-9B0B-194524F6B3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5813E9-3163-4B66-9F62-712AAB30E6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536B-9336-4FCD-9D97-20F96E18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32A4E-D11E-4AA3-87DA-41609E53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6E15F8-3FF4-4A4A-B322-5CE7A982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06E61-0F3A-40C2-AE4A-103DEF46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1DFB8-1F0E-4556-8A1D-F038999B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62B9A-5DED-42CA-A398-890703C5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315CB-DF19-42F5-A80A-02B1BCA0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1E5F6-70F7-4FDA-AE76-A0F5047B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80E5C8-D8FC-4DC6-AE91-24BC79B5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77D110-E8B1-44B3-BE06-EB8EFBF7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97EB1-A269-4EFE-B392-5E71817B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811A-4118-41DD-BA9B-42280D62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4A843-8E71-4CA5-81C5-1D135D3EA7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AFD92-5A7D-4FB4-A23F-D46174D36F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2A50D-F365-46DE-B2D2-440DE726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23A9-B0B6-4487-9021-3F1CD9B0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EAF82-6FB0-498A-9AF0-75F3B134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34C6-C31C-4744-8108-07491A05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2CF50-74B1-4D49-9989-58058E88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9269C-1A6F-499F-BBD2-A5AACD5F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9AA5-40C1-438F-86E5-917EAA93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F6B4-3E7A-4AA1-A7F6-8C8385E0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79BB-3FCE-4A1F-921C-320DAD8D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D410D-6B32-4037-A7D8-62A962F2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DBC3-055A-4A44-A522-987E041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7F6D5-DC27-492A-8775-1CED663D2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8BBD8-8F32-40AA-9ECB-C690A78ABB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7F3E9-51F0-4B40-9214-203C4C5F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DBF36-21AF-45CE-89AD-039AC62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606F6-FEB5-4667-A514-1EEEB0EA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8AC56-3B29-4A32-9358-C9E300CC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41C1B-1B93-4D34-80A8-15E3F9DA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A542E-4F98-40CD-9A7F-4D523D05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4387-5927-4000-AE7E-94777E50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027F2-166C-4B35-A4E6-CB3DB8EF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31104-A3A0-4EF9-927A-28B7E927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2EE9B-907A-457B-808B-3818C336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1BF8B-FA44-4A94-B760-B3B34DDF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52B3C-264F-42FF-AA0A-0E467CAD9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4CEE38-DBC2-460D-BD24-AC82CEE5EB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2C49BA-431E-4211-8557-35F3657B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5924BE-05E2-46E7-9698-1430E65F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FD0D5D-FA37-4F7E-B6EF-112EC2FB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B5BC4B-2D0A-4042-9BFB-942EFD26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82CF-E42B-479F-BF2B-0E2525B4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B902DE-61B5-4A53-B70B-D559FD85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8D1B45-B681-4AD3-B13C-72E8ABCD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1CE141-C8BD-4AB1-88B9-AC96C1AA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A44A33-7289-435B-9BEC-5139A1B5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958ACF-9017-441E-ACC9-5B9A8A8C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49DE14-D138-4ED6-AB57-3B70A8D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8096A6-6649-4578-8083-72B57BC8E5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9812-CEE0-4482-8517-782DE822D663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Afbeelding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" name="Afbeelding 11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6"/>
          <p:cNvSpPr/>
          <p:nvPr/>
        </p:nvSpPr>
        <p:spPr>
          <a:xfrm>
            <a:off x="4678200" y="0"/>
            <a:ext cx="73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90B0-3E03-46B1-A20E-8EBB761B6357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9DF6-5425-4F15-AC3B-4C2EA9423A76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4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6" descr=""/>
          <p:cNvPicPr/>
          <p:nvPr/>
        </p:nvPicPr>
        <p:blipFill>
          <a:blip r:embed="rId3"/>
          <a:stretch/>
        </p:blipFill>
        <p:spPr>
          <a:xfrm>
            <a:off x="2411280" y="58680"/>
            <a:ext cx="792360" cy="62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4"/>
          <a:stretch/>
        </p:blipFill>
        <p:spPr>
          <a:xfrm>
            <a:off x="324000" y="57240"/>
            <a:ext cx="792000" cy="63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2AF6-2286-4415-804F-A31E751E30F6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89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3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4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9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0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3AB6-069F-41C7-BF3B-67F2C12B32F0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3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4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C72D-136D-45BD-BAA0-236D8C671AA2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8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7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88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A104-1B2E-446A-925A-FAC4A036BEAD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330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34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3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D360-54C5-405C-A2F4-071CFCFD1E78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mailto:Arne.theil@ptno.nl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5905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Afbeelding 5" descr="vts.jpg"/>
          <p:cNvPicPr/>
          <p:nvPr/>
        </p:nvPicPr>
        <p:blipFill>
          <a:blip r:embed="rId1"/>
          <a:stretch/>
        </p:blipFill>
        <p:spPr>
          <a:xfrm>
            <a:off x="5076720" y="2637000"/>
            <a:ext cx="3275280" cy="2016000"/>
          </a:xfrm>
          <a:prstGeom prst="rect">
            <a:avLst/>
          </a:prstGeom>
          <a:ln w="0">
            <a:noFill/>
          </a:ln>
        </p:spPr>
      </p:pic>
      <p:pic>
        <p:nvPicPr>
          <p:cNvPr id="380" name="Afbeelding 6" descr="southamptonvts2.jpg"/>
          <p:cNvPicPr/>
          <p:nvPr/>
        </p:nvPicPr>
        <p:blipFill>
          <a:blip r:embed="rId2"/>
          <a:stretch/>
        </p:blipFill>
        <p:spPr>
          <a:xfrm>
            <a:off x="539640" y="4076640"/>
            <a:ext cx="4295880" cy="2333520"/>
          </a:xfrm>
          <a:prstGeom prst="rect">
            <a:avLst/>
          </a:prstGeom>
          <a:ln w="0">
            <a:noFill/>
          </a:ln>
        </p:spPr>
      </p:pic>
      <p:sp>
        <p:nvSpPr>
          <p:cNvPr id="381" name="Tekstvak 7"/>
          <p:cNvSpPr/>
          <p:nvPr/>
        </p:nvSpPr>
        <p:spPr>
          <a:xfrm>
            <a:off x="996480" y="242100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e Th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c9c9e"/>
                </a:solidFill>
                <a:uFillTx/>
                <a:latin typeface="Arial"/>
                <a:hlinkClick r:id="rId3"/>
              </a:rPr>
              <a:t>arne.theil@tno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1-88-8664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6440" y="1412640"/>
            <a:ext cx="82076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03280" y="3212640"/>
            <a:ext cx="6624720" cy="22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h lis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O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64087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september 2010: IALA → TNO: ‘Can TNO upgrade CARPET v2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ebruari 2011: TNO → IALA: ‘Can IALA support the business case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januari 2012: TNO presentation during IALA subcommittee. Prior to this meeting, TNO has sent-out wish l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xtensions must the new version of CARPET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development of the new version going to be financ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264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4816440" y="189000"/>
            <a:ext cx="1828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1042920" y="2276640"/>
            <a:ext cx="43344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6300720" y="3500280"/>
            <a:ext cx="432000" cy="4334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1835280" y="4797360"/>
            <a:ext cx="43308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"/>
          <p:cNvSpPr/>
          <p:nvPr/>
        </p:nvSpPr>
        <p:spPr>
          <a:xfrm>
            <a:off x="3708360" y="2781360"/>
            <a:ext cx="43200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9"/>
          <p:cNvSpPr/>
          <p:nvPr/>
        </p:nvSpPr>
        <p:spPr>
          <a:xfrm>
            <a:off x="4572000" y="4581360"/>
            <a:ext cx="43164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Isosceles Triangle 10"/>
          <p:cNvSpPr/>
          <p:nvPr/>
        </p:nvSpPr>
        <p:spPr>
          <a:xfrm>
            <a:off x="1763640" y="2637000"/>
            <a:ext cx="432000" cy="4316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Isosceles Triangle 11"/>
          <p:cNvSpPr/>
          <p:nvPr/>
        </p:nvSpPr>
        <p:spPr>
          <a:xfrm>
            <a:off x="3851280" y="2924280"/>
            <a:ext cx="433440" cy="4334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3635280" y="306864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780000" y="4437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6443640" y="378936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7667640" y="1989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5-Point Star 19"/>
          <p:cNvSpPr/>
          <p:nvPr/>
        </p:nvSpPr>
        <p:spPr>
          <a:xfrm>
            <a:off x="5364000" y="213372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6" y="192221"/>
                </a:lnTo>
                <a:lnTo>
                  <a:pt x="503236" y="192219"/>
                </a:lnTo>
                <a:lnTo>
                  <a:pt x="347727" y="311017"/>
                </a:lnTo>
                <a:lnTo>
                  <a:pt x="407127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0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-Point Star 20"/>
          <p:cNvSpPr/>
          <p:nvPr/>
        </p:nvSpPr>
        <p:spPr>
          <a:xfrm>
            <a:off x="6156360" y="3645000"/>
            <a:ext cx="503280" cy="5047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-Point Star 21"/>
          <p:cNvSpPr/>
          <p:nvPr/>
        </p:nvSpPr>
        <p:spPr>
          <a:xfrm>
            <a:off x="5508720" y="5445000"/>
            <a:ext cx="503280" cy="5050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960 h 505080"/>
              <a:gd name="textAreaBottom" fmla="*/ 385920 h 50508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-Point Star 22"/>
          <p:cNvSpPr/>
          <p:nvPr/>
        </p:nvSpPr>
        <p:spPr>
          <a:xfrm>
            <a:off x="2484360" y="400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7">
                <a:moveTo>
                  <a:pt x="1" y="192219"/>
                </a:moveTo>
                <a:lnTo>
                  <a:pt x="192221" y="192220"/>
                </a:lnTo>
                <a:lnTo>
                  <a:pt x="251619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7" y="311016"/>
                </a:lnTo>
                <a:lnTo>
                  <a:pt x="407127" y="503235"/>
                </a:lnTo>
                <a:lnTo>
                  <a:pt x="251619" y="384436"/>
                </a:lnTo>
                <a:lnTo>
                  <a:pt x="96110" y="503235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5-Point Star 23"/>
          <p:cNvSpPr/>
          <p:nvPr/>
        </p:nvSpPr>
        <p:spPr>
          <a:xfrm>
            <a:off x="3492360" y="256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8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7" y="192221"/>
                </a:lnTo>
                <a:lnTo>
                  <a:pt x="503237" y="192219"/>
                </a:lnTo>
                <a:lnTo>
                  <a:pt x="347727" y="311017"/>
                </a:lnTo>
                <a:lnTo>
                  <a:pt x="407128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1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2152080" y="616572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agreement as well as disagre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788000" y="260280"/>
            <a:ext cx="18000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95280" y="1628640"/>
          <a:ext cx="8280360" cy="462276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latest generation solid state coherent VTS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F/RF/pulslength/pulse compression ag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 Doppler filter coefficients, non standard Doppler filt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Terma’s frequency 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C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ing tool, modelling of a radar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 and other receiver characteristics (e.g. lin/log, limited number of bi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tool’, command interf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/fail verdict that relates to IAL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ide-lo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borne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6193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2DA0-9D0E-4D6E-A23C-89F68F8F8D97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95280" y="1628640"/>
          <a:ext cx="8280360" cy="268308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sea clutter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extensive specification of loss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velocity aver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NO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920" y="2199960"/>
            <a:ext cx="70581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of the latest generation solid state coherent VTS rad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: complex waveform (RF/PRF/pulse length agility), post-detection binary integration, extensive loss factor specification, (partially) encrypted settings files, feedback of OEMs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point-like target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dvanced modern GUI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B6D9-3FAA-4194-97DD-5036D498808B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6337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9640" y="2199960"/>
            <a:ext cx="8136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w CARPET-VTS will be able to assess the performance of the latest generation coherent VTS rad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the modernisation of CARPET, future steps, such as the analysis of radar networks can be taken more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16mScenario7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5:11:03Z</dcterms:created>
  <dc:creator/>
  <dc:description/>
  <dc:language>en-US</dc:language>
  <cp:lastModifiedBy/>
  <dcterms:modified xsi:type="dcterms:W3CDTF">2013-09-15T11:57:33Z</dcterms:modified>
  <cp:revision>77</cp:revision>
  <dc:subject>Powerpoint Wizzard</dc:subject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">
    <vt:lpwstr>M Bouman </vt:lpwstr>
  </property>
  <property fmtid="{D5CDD505-2E9C-101B-9397-08002B2CF9AE}" pid="3" name="Color">
    <vt:lpwstr>True</vt:lpwstr>
  </property>
  <property fmtid="{D5CDD505-2E9C-101B-9397-08002B2CF9AE}" pid="4" name="CreationBy">
    <vt:lpwstr>boumanm</vt:lpwstr>
  </property>
  <property fmtid="{D5CDD505-2E9C-101B-9397-08002B2CF9AE}" pid="5" name="CreationDate">
    <vt:lpwstr>10-1-2011 15:59:00</vt:lpwstr>
  </property>
  <property fmtid="{D5CDD505-2E9C-101B-9397-08002B2CF9AE}" pid="6" name="DateText">
    <vt:lpwstr>10 januari 2011</vt:lpwstr>
  </property>
  <property fmtid="{D5CDD505-2E9C-101B-9397-08002B2CF9AE}" pid="7" name="Department">
    <vt:lpwstr>5299</vt:lpwstr>
  </property>
  <property fmtid="{D5CDD505-2E9C-101B-9397-08002B2CF9AE}" pid="8" name="FavoriteLink1Image">
    <vt:lpwstr>TNOdummytijdsbalkbeeld001.jpg</vt:lpwstr>
  </property>
  <property fmtid="{D5CDD505-2E9C-101B-9397-08002B2CF9AE}" pid="9" name="FavoriteLink1Index">
    <vt:lpwstr>1</vt:lpwstr>
  </property>
  <property fmtid="{D5CDD505-2E9C-101B-9397-08002B2CF9AE}" pid="10" name="FavoriteLink2Image">
    <vt:lpwstr>TNOdummytijdsbalkbeeld002.jpg</vt:lpwstr>
  </property>
  <property fmtid="{D5CDD505-2E9C-101B-9397-08002B2CF9AE}" pid="11" name="FavoriteLink2Index">
    <vt:lpwstr>1</vt:lpwstr>
  </property>
  <property fmtid="{D5CDD505-2E9C-101B-9397-08002B2CF9AE}" pid="12" name="Grammar">
    <vt:lpwstr>1</vt:lpwstr>
  </property>
  <property fmtid="{D5CDD505-2E9C-101B-9397-08002B2CF9AE}" pid="13" name="PresentationDate">
    <vt:lpwstr>10-9-2013 13:44:43</vt:lpwstr>
  </property>
  <property fmtid="{D5CDD505-2E9C-101B-9397-08002B2CF9AE}" pid="14" name="ShowDate">
    <vt:lpwstr>True</vt:lpwstr>
  </property>
  <property fmtid="{D5CDD505-2E9C-101B-9397-08002B2CF9AE}" pid="15" name="ShowPages">
    <vt:lpwstr>True</vt:lpwstr>
  </property>
  <property fmtid="{D5CDD505-2E9C-101B-9397-08002B2CF9AE}" pid="16" name="SubTitle">
    <vt:lpwstr>Powerpoint Wizzard</vt:lpwstr>
  </property>
  <property fmtid="{D5CDD505-2E9C-101B-9397-08002B2CF9AE}" pid="17" name="Title">
    <vt:lpwstr>TNO Nieuwe huisstijl</vt:lpwstr>
  </property>
</Properties>
</file>